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0.jpeg" ContentType="image/jpeg"/>
  <Override PartName="/ppt/media/image8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wmf" ContentType="image/x-wmf"/>
  <Override PartName="/ppt/media/image11.jpeg" ContentType="image/jpeg"/>
  <Override PartName="/ppt/media/image24.png" ContentType="image/png"/>
  <Override PartName="/ppt/media/image27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92C6-E1BE-4ECD-A4D1-47D9CA0FF69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68A3-A434-4B55-92E2-4100D334224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E29-4BB4-45C0-9591-B5EA72C7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7E9-89BE-4685-882C-4DE59C6F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E25-BED6-477A-9180-6CE32F0E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E31-0938-495F-8B1F-FFD9BBEE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241-C4CC-4B05-9EE9-7FE98F22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B11-AEFA-479D-A569-3342D9D1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C3C-6CB0-4A55-BED2-8B1D58BA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873-EEC5-448F-9D77-3D650D0E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B22-6F2E-4580-A948-D63EE89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8AA-5844-4581-9BC5-9225C05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A65-67DF-4BD6-8224-6505BBE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F60-EB19-4485-AD80-4B3FE15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C94-EB27-473C-B4CB-E88575BF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инезитерапија болесника са дегенеративним и ванзглобним реумат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odloga"/>
          <p:cNvPicPr/>
          <p:nvPr/>
        </p:nvPicPr>
        <p:blipFill>
          <a:blip r:embed="rId1"/>
          <a:srcRect l="19578" t="0" r="19895" b="78840"/>
          <a:stretch/>
        </p:blipFill>
        <p:spPr>
          <a:xfrm>
            <a:off x="1785960" y="841320"/>
            <a:ext cx="5543640" cy="1452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841400" y="572760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оц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р Катарина Парезановић Илић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скавица након оптерећења прима воду из синовијалне течности и поприма особине хидрауличног јаст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колико оптерећења траје дуже или у краћим интервалима долази до оштећења хрскав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ази до деформације, губљења еластицитета и појаве патолошке фибрилације и ебурн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брилација је појава фисура између влакана хрскав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бурнизација је процес стварања новог субхондралног коштаног реактивног ткива - остеоф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субхондраном делу настају и цистичне про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брилација доводи до стварања љуспица које пливају по зглобној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ложе се на дну зглоба и условљавају иницијални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грација леукоцита из синовије и фагоцитоза љуспица хрскавице условљавају ослобађање лизозимских ензима који изазивају реакцију синовије - реактивно запаљ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им оптерећења артрозе могу настати и због: прекомерна телесна тежина, неправино држање, асиметрично оптерећење зглобова, микротрауме, конгениталне мал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0323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захваћени зглобов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TP зглоб (Hallux valg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P и DIP зглобови шак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MCP згл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кови и ко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ови цервикалне и лумбалне кич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захваћени зглобов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TP зглоб (Hallux valg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P и DIP зглобови шак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MCP згл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кови и ко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ови цервикалне и лумбалне кич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4757760" y="1773360"/>
            <a:ext cx="370188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већи број болесника осећа дубоки, мучни бол са постепеним почетком, који се погоршава са активношћу и постепено престаје током одмора. Kада је болест озбиљнија, болови могу бити присутни и током одмора и утицати на спав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утарња укочено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е кратког трајања (до 30 минута) за разлику од оне у запаљенским реуматским болестима, која најчешће траје знатно ду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“хлађења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значава обнављање укочености зглоба захваћеног остеоартрозом након периода продуженог инактивит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ци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етљивост на палп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но ограничени покрети вели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пи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већање зг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4392720" cy="391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673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3024360" cy="31669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024360" cy="338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163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ехабилитација реуматских болес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уматизам представља заједнички термин за оштећења коштанозглобн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остеоартикуларног) система и меких ткива (периартикуларне структуре),које је праћено болом и поремећајем фун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уматска обољења карактери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ка учестал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ска стопа  смр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готрајно боловање и инвали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јагноз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онална про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абораторијс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ематолош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пс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иографс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ртроск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марк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лтрасонограф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уклеарна магнетна резонанција (НМ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097080" cy="360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03640" cy="41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396072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Rem_Buch_025"/>
          <p:cNvPicPr/>
          <p:nvPr/>
        </p:nvPicPr>
        <p:blipFill>
          <a:blip r:embed="rId2"/>
          <a:stretch/>
        </p:blipFill>
        <p:spPr>
          <a:xfrm>
            <a:off x="5076720" y="1700280"/>
            <a:ext cx="361008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мерена 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узбијању симпто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чувању квалитета живота и функције згл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иљ терап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кац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ацијената о природи, току и прогнози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њење болова у захваћеним зглоб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мизација функционалног стат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исне модификације самог процеса артр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устављање прогресије лезија, инхибицијом деградације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скавице, стимулацијом репарације или комбинацијом оба проц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дукација 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ште ме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регулација телесне тежине, лока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, аеробни физички трени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а ор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каментн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лнеофизикал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руршк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шти савети болесниц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терана употреба зглобова и понављане повреде морају се избегав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телесне масе може донети корист болеснику са остеоартрозом носећих зглобова као што су кол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ови у остеоартрози се смањују током одмора, због чега је одмор зглобова посебно важан када су болови снаж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метријско јачање потпорних мишића око зглобова може бити од користи (као што су вежбе позиционирања квадрицепса у остеоартрози кол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вање и аеробне вежбе у води представљају најбољи облик аеробних вежби за болеснике са остеоартрозом кукова и колена, док трчање треба избегав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ак физикалне терапије у лечењу болесника са ОА периферних зглобов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стерећење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ење бол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бољшање или одржавање покретљивост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чување и повећање мишићне снаг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ење функционалних оштећ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ам дејства је вишестру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ификација ослобађања медијатора запаљенске реакције, као што су хистамин, серотонин, брадикинин, простагландини, супстанција 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одулација гате механизмом трансмисије импулсе за бол у задњим роговима К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њају нервну проводљивос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имулишу продукцију ендогених опиоида – енкефалина и ендорф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Изазивају хиперполаризацију ћелијскле мембране, подижу праг 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ректно дел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ују мишићни спа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одификују васкуларни тонус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већавају циркулацију крви и лимф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ују или одстрањују оток и исхемију ткива и алгогене супстан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ност не изазивају штетне ефекте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апијске вежбе представљају једну од најважнијих 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воде се индивидуално и имају за ци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оштећења и очувања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б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ћање обима покрета и снаге, нормализацију хода И олакшано обављање свакодневних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штиту ОА зглоба од даљег оштећења смањењем стреса зглоба, смањењем оптерећења зглоба и побољшањем биомеха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венцију слабости и лошег здравља услед инактивитета повећањем свакодневне физичке активности и побољшањем физичког изг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ласификација реуматских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859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нск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генеративн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нзглобн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тке реуматске болести и парареуматска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нису дозвољене код акутно инфламираног зглоба са от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ор начина вежбања, трајање, учесталост и интензитет вежби су од великог значаја за успех терап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квир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незитерапије примењују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за очување и повећање обима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ивне и активно потпомогнуте вежб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 примењују у циљу уклањања укочености, повећања или очувања покретљивости у зглобу и повећања дужине и еластичности мишића и периартикуларних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току инфламације у зглобу, покретљивост зглоба треба одржавати извођењем, најмање једном дневно, комплетног пуног покре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жбе за јачање грубе моторне снаге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деалне с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метричке ве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ихова предност је у томе што се максимална мишићна тензија може изазвати уз минималан рад, мишићни замор и оптерећење зглоба, као и да се може постићи опуштање напетих мишића 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о где се изометричким тренингом не може постићи потпуна снага, потребно је у програм увести и изотоничке ве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жбе са прогресивним отпором повећавају снагу али и пуно оптерећују зглобове, јер имају висок изотонички интензитет И високи от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жене вежбе ниског интензитета и ниског оптерећењ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 да повећају снагу и изотоничку издржљивост ако се спроводе до тачке замора. Ова метода је погодна за болеснике са неинфламираним зглоб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еробик вежб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шетња, вожња бицикла, аеробик плес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еробик вежбе у баз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е доводе до побољшања флексибилности, снаге,повећања КВ капацитета и општег здравственог стања, као и губитка телесне теж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току инфламације зглоба, отока или бола треба избегавати активности које повећавају оптерећење 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вање и вежбе у базен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у мањи стрес за зглобове од других аеробик веж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сник треба да смањи интензитет активности или да промени врсту аеробик вежби, уколико ходање и џогинг доводе до повећања симп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е састоје у скраћењу меких ткива у зглобу и око зглоба 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иферације и фиброзе везивног ткива, при чему могу да буду захваће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на чаху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оновио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игамен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шићи и њихове те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асциј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истезањ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etch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се користе када је контрактура изазвана скраћењем мишићнотетивних јед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билизација и тракција зглобо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 ради када је скраћена зглобна капсула и лигаме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ло често се комбинују ове две тех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водна терапија – т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Coxarth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троза кука или коксартроза заузима прво место међу артрозама због своје учестаности и тежине оштећења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у се, најчешће, код особа преко четрдесет година, равноправно код оба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3571920" y="2629080"/>
            <a:ext cx="200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571920" y="2629080"/>
            <a:ext cx="200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243240" y="2567160"/>
            <a:ext cx="265752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243240" y="2567160"/>
            <a:ext cx="265752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ANd9GcR0XqhM7Tv_QPmDwzl854M3BKYIFY9TJZecoN7Y6jzvPelHyhOnfA"/>
          <p:cNvPicPr/>
          <p:nvPr/>
        </p:nvPicPr>
        <p:blipFill>
          <a:blip r:embed="rId1"/>
          <a:stretch/>
        </p:blipFill>
        <p:spPr>
          <a:xfrm>
            <a:off x="684360" y="3429000"/>
            <a:ext cx="3958920" cy="317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ANd9GcRMG4bWxzeZ6acNUmrY_jwIatrz2pQdVEsWby99HDQs5hs8Kc2StA"/>
          <p:cNvPicPr/>
          <p:nvPr/>
        </p:nvPicPr>
        <p:blipFill>
          <a:blip r:embed="rId2"/>
          <a:stretch/>
        </p:blipFill>
        <p:spPr>
          <a:xfrm>
            <a:off x="2914560" y="549360"/>
            <a:ext cx="5112000" cy="2739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ANd9GcTr9CABz7qGbiUM_ulwZ5R7WQ7ZbJ2S1mZWKjXZZ29y3Nt3DTUs"/>
          <p:cNvPicPr/>
          <p:nvPr/>
        </p:nvPicPr>
        <p:blipFill>
          <a:blip r:embed="rId3"/>
          <a:stretch/>
        </p:blipFill>
        <p:spPr>
          <a:xfrm>
            <a:off x="826920" y="549360"/>
            <a:ext cx="1854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ртроза колена (gonartro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л је први клинички знак гонартрозе.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ично почиње као бол са предње или унутрашње стране колена, много ређе са спољне или задње стране, а касније захвата цело колено. У почетку се јавља при ходу, нарочито по неравном тер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ртроза колена (gonartro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Јављају се прескакања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крипа (тареж, крепитације) у коленима. Укочења колена (блокаде) су ретке и обично су последица других оштећења зглобе хрскавице или менискуса. Оток колена и стрварање веће количине течности у колену се јављају у каснијој фази.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граничење покрета, нарочито савијања се јавља више година после почетка болести.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3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741840" cy="433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4"/>
          <p:cNvGraphicFramePr/>
          <p:nvPr/>
        </p:nvGraphicFramePr>
        <p:xfrm>
          <a:off x="324000" y="1484280"/>
          <a:ext cx="444960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4449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Патогенеза артрозе ко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Дегенеративне реуматске бол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ериферних зглоб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артрозе или остеоартрит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коксартроза, гонартроза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ичменог стуб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спондилоза,спондилоартр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скартроза, ункартр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3"/>
          <p:cNvGraphicFramePr/>
          <p:nvPr/>
        </p:nvGraphicFramePr>
        <p:xfrm>
          <a:off x="1042920" y="1197000"/>
          <a:ext cx="7201080" cy="50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201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Ендопротеза ко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Kinemax Knieprothese - knstliches Kniegelenk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егенеративно реуматско обољење кичменог стуба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pondil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70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Цервик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и цервик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брахиј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цеф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медулар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дицинска рехабилитација цервикалног синдр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м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утне ф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требно је мировање врат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ме у меком овратнику (Schantzov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в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тник) током дана и ноћи, а после само током ноћи док трају симптоми. Локално, на кожу изнад мишића који се налазе уз вратну кичму, примењује се масажа ледом (криомасаж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роничној фа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кад се смањи интензитет болова, а кичма постане покретљивија, примењују се аналгетици или нестероидни антиинфламаторни лекови према потреби. За попуштање болова и спазма примењујемо топле процедуре, масажу, електротерапију и тракцију (истезање). Топле процедуре су у облику топлих облога, топлих купки, туширања, инфрацрвене лампе, терапијског ултра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езитерапија-најзначај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егенеративно реуматско обољење кичменог стуба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pondilo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умбал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Разликују се два клиничка облика лумбалног синдр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мбалгија (лумба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ресивна радикулопатија (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шиј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умбал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бол у лумбалном пределу)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. По дужини трајања дели 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кутна лумбалгија настаје 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рузије нуклеу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лпосус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блуксације интервертебралног зглоба (fasсet синд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акутна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лумбалг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Хронична лумбал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3600" spc="-1" strike="noStrike">
                <a:solidFill>
                  <a:srgbClr val="000000"/>
                </a:solidFill>
                <a:latin typeface="Arial"/>
              </a:rPr>
              <a:t>Лумбална радикулопатија</a:t>
            </a:r>
            <a:r>
              <a:rPr b="1" lang="sr-Latn-BA" sz="3600" spc="-1" strike="noStrike">
                <a:solidFill>
                  <a:srgbClr val="000000"/>
                </a:solidFill>
                <a:latin typeface="Arial"/>
              </a:rPr>
              <a:t> или компресивна ишиалгија је компресивни радикуларни синд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Компресију корена живца изазивају 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ус херни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луксација интервертебралних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чне дегенеративне болести кичменог ст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Дискус хернија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се најчешће јавља између тридесете и педесете године живота и у више од 95% случајева на ниво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L5 (компресија корена L5) или на нивоу L5-S1 (компресија корена S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Discus her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06-1-lumbar-disk-herniation"/>
          <p:cNvPicPr/>
          <p:nvPr/>
        </p:nvPicPr>
        <p:blipFill>
          <a:blip r:embed="rId1"/>
          <a:stretch/>
        </p:blipFill>
        <p:spPr>
          <a:xfrm>
            <a:off x="1692360" y="131436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ласификација лумбалног синдрома по дужини трај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кутни лумбални бол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&lt; 6 недељ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ични лумбални бол ( &gt; 12 недељ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бакутни лумбални бол ( 6 - 12 недељ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дицинска рехабилит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Акутни стадиј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Latn-B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жање у постељ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т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ракција лумбалног дела кичменог ст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дикаментозна терапија (антифлогистика, аналгетика, седат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Субакутни стадиј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нформација о болести и еду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ези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х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идротера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т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е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лектр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у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лтрсонотера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л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сер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гнет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нуелна мас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је ефикасна у смањењу бола и побољшању функције код одраслих са хроничним лумалним болом.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грам вежби треба започети чим попусте бол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е зна се оптимално време за почетак кинезитерапије од појаве  симптома (2 до 6 недељ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еоартроза се најчешће описује као незапаљенско обољење зглобова у коме се јавља оштећење зглобне хрскавице и стварање нове кости на зглобним површинама и ивиц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атогенези остеоартрозе у последње време  појавили су се докази о важном учешћу биомеханичких, биохемијских и других процеса изазваних цитокин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ваки програм би требало да се индивидуализује према стању појединог пациј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олесници с акутним лумбалним болом не показују слабост екстензорних мишића, док су у хроничној фази ти мишићи ослабљ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рема типу, вежбе могу бити флексијске или екстензијске</a:t>
            </a:r>
            <a:r>
              <a:rPr b="1" lang="sr-RS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лексијске вежбе се користе да би се растегли флексори кука и екстензори леђа, да би се ојачала абдоминална и глутеална мускулатура и да би се извршила мобилизација задње фиксације  лумбалних зглобова. Вежбе екстензије јачају мишиће леђа, а хиперекстезијске вежбе повећавају покретљи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 акутног лумбалног бола европски водичи не препоручују примену специфичних програма вежби као што су вежбе истезања, јачања, флексије и екстен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убакутни и хронични лумбални бол, не постоје јединствени докази о предности појединог типа вежби у односу на други и већина терапијских водича не препоручује одређени програм вежби. Постоји велики број кинезитерапијских програма који су током историје нашли своје место у лечењу лумбалног бо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McKenzie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метод, Реганов, Мишелов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illotson-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ов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illiams-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ов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програм,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rügerova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техника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runkova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постурална корекција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52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Kenzi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: заснива се на јачању екстензора кич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ије мета-анализе - метод веома успешан у третману акутног Л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жбе које подразумевају хиперекстензију кичме, у трајању од неколико минута, бол се премешта на проксималне партије КС, централизује и коначно нестаје. Када болна фаза престане, вежбама екстензије, додају се лагане вежбе флекс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дна велика студија код болесника са субакутним и хроничним лумбалним болом, утврдила  је да је Mekenzi приступ, у поређењу са интензивним динамичним вежбама јачања, био је мало ефикаснији током два месеца на побољшање функције, али разлика се није одржавала у дужем пери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анова метод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а за циљ: истезање ПВМ и мишића итерскапуларне регије, предње мишићно-лигаментне структуре кукова, задње ложе натколеница и потколеница, јачање трбушних и антигравитационих миши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елова метод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истира се на истезању мишића који утичу на постуру, на мобилности карлице и формирању мишићног мидера тру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ментна нестабилност лумбалне кичме сматра се основним узроком неспецифичног хроничног Л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им проблемом бави се све више савремених ау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зивно се проналазе адекватни, високо специфични кинезитерапијски програми, који ће утицати на повећање функционалности и смањење бола, код болесника са хроничним лумбалним синдро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адиционални програми јачања снаге великих група мишића трупа у комбинацији са вежбама истезања, утичу на побољшање коштано-мишићног система, обликовање тела и побољшање пос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достатак - оне активирају само мишиће спољашњег слоја лумбалног сегмента (m. Rectus abdominis, m. obliquus externus abdominis, m. Quadratus lumborum i dr.), док је унутрашња јединица запостављена, па је самим тим и стабилност лумбалног сегмента нарушена, а бол и даље прису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би се тај недостатак превазиша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ходно ј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ком програму јачања снаге и покретљив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их група мишића, _x000b_додати и сет стабилизационих веж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е ће активирати и ојачати _x000b_мишиће унутрашње једин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gmark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 леђну мускулатуру поделио у две групе: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локални и глобални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и системи се карактеришу анатомским и функционалним систе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обални систем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rect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obliqu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errector spin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Резултат слика за rectus abdominis slike"/>
          <p:cNvPicPr/>
          <p:nvPr/>
        </p:nvPicPr>
        <p:blipFill>
          <a:blip r:embed="rId1"/>
          <a:stretch/>
        </p:blipFill>
        <p:spPr>
          <a:xfrm>
            <a:off x="5292720" y="2997360"/>
            <a:ext cx="3394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Локални систем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transvers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fi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0974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8" descr=""/>
          <p:cNvPicPr/>
          <p:nvPr/>
        </p:nvPicPr>
        <p:blipFill>
          <a:blip r:embed="rId2"/>
          <a:srcRect l="0" t="0" r="3565" b="17394"/>
          <a:stretch/>
        </p:blipFill>
        <p:spPr>
          <a:xfrm>
            <a:off x="4716360" y="3429000"/>
            <a:ext cx="33116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ни систем је одговоран за примарне покрете и одржавање телесне равнот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transversus abdominis се налази у дубоком слоју предњег и спољашњег абдоминалног зида и уз m. multifidus основни је стабилизатор лумбалне кичме. Стабилизује кичму и штити торакалне и лумбалне кичмене пршљенове током покр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ски локални чинио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ска ос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стна гус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анљиве м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кални биомеханички чиниоци заједно са системским факторима имају синергистичке ефекте у процесу нарушавања грађе хрскав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son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il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ви представљају програм вежби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. transversus abdominis i multifidus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ји почив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љају акценат на истовремену актив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. transversus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ominis-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. multifidus-a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утем статичких контра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иомеханички ефекат  вежбања ових мишића огледа се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билизацији сакроилијачног зглоба, који многи доводе у везу са стабилношћу лумбалне кич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тпоставци да се увећањем снаге и издржљивости ових мишића утиче на стабилност лумбалне кичме, а самим тим и на смањење бола и повећање укупне функционалне 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 комбиноване сегментне спиналне стабилизације уједињује стабилизационе технике са вежбам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lliams)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кстенз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cKenzie),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стуралне корекц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she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симетричне изометријске контракције уз реинклинацију карлице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nkow),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стезањ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раћене мускулатуре, посебно предњих флексора кука и хамстринг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ај начин апсолутно покрива захтеве потпуног функционалног опоравка лумбалне кич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тавови и положаји у циљу заштите лумбалног дела кич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pozv9"/>
          <p:cNvPicPr/>
          <p:nvPr/>
        </p:nvPicPr>
        <p:blipFill>
          <a:blip r:embed="rId1"/>
          <a:stretch/>
        </p:blipFill>
        <p:spPr>
          <a:xfrm>
            <a:off x="395280" y="2176560"/>
            <a:ext cx="4016520" cy="290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pozv10"/>
          <p:cNvPicPr/>
          <p:nvPr/>
        </p:nvPicPr>
        <p:blipFill>
          <a:blip r:embed="rId2"/>
          <a:stretch/>
        </p:blipFill>
        <p:spPr>
          <a:xfrm>
            <a:off x="4572000" y="2133720"/>
            <a:ext cx="4267080" cy="29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анзглобни реумат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ntenzitis ili entensopat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urz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osino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nikulitis ili cel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ofibroz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eri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артритис хумероскапуларис представља запаљенски процес околних артикуларних структура раменог зглоба и консекутивног болног синдрома р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0320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е релативно често обољење у средњем и старијем животном добу и око 10% становништва има ове пробл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 је праћен у клиничкој слици следећим симптом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аничени покр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шићна слаб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http://www.periarthritis-humeroscapularis.eu/index.7.GIF"/>
          <p:cNvPicPr/>
          <p:nvPr/>
        </p:nvPicPr>
        <p:blipFill>
          <a:blip r:embed="rId1"/>
          <a:stretch/>
        </p:blipFill>
        <p:spPr>
          <a:xfrm>
            <a:off x="755640" y="1700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снови овог процеса је оток и калкификација меких структура око рамена згло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бно се овај процес манифестује на припоји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 infra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raspinatus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о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 biceps brachii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 свега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usu coracoideusu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лузним кесиц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ursitis subdeltoidea)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често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таторној манжет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subscapularis,supraspinatu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fraspinatus i teres major i mino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Schmerzhafter Bogen einer Periarthritis"/>
          <p:cNvPicPr/>
          <p:nvPr/>
        </p:nvPicPr>
        <p:blipFill>
          <a:blip r:embed="rId1"/>
          <a:stretch/>
        </p:blipFill>
        <p:spPr>
          <a:xfrm>
            <a:off x="1123920" y="2087640"/>
            <a:ext cx="270504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аки мишић ротаторне манжетне има своју инсерцију на с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пули и тетивни припој на хумеру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ограничена абдукција и УР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059280" y="3429000"/>
            <a:ext cx="288108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изикал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терапија-електроаналгетске процед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траљубичасто 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раруж  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нет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и ризи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астанак и даљи ток О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јазно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уство ОА на више локализациј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ичке проме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е студије су указале на улог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пт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 гојаз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а и у инфлам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А настаје ка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нично или интермитентно нефизиолошко оптерећ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них зглобова (примарна артр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шки мање вредна артикуларна ткива независно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терећења (секундарни облици боле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42483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на хрскавица је глатка, сјајна, беле боје, полупровидна. Најдебља је на месту највећег притиска, а на периферији се стапа са синовијом 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тављена је од ћелија хрскавице и основне масе. Нема крвне судове, ни нер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ндроцити се не деле, али су метаболички актив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рикс чине протеогликан (мукополисахариди) и хијалуро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брење протеогликана омогућава да хрскавица пружи отпор компресији и деформа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ед оптерећења, делују и силе сабијања на зглоб, које могу бити веће и од ефикасне 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katarinaparezanovicilic@gmail.com</cp:lastModifiedBy>
  <dcterms:modified xsi:type="dcterms:W3CDTF">2020-09-26T16:47:10Z</dcterms:modified>
  <cp:revision>47</cp:revision>
  <dc:subject/>
  <dc:title>Slide 1</dc:title>
</cp:coreProperties>
</file>